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476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867888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7E7D7-1216-4741-A9A5-BAD41C926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064E-AACA-4074-9AE5-EEFD016CA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AF618-89CC-44FE-912C-477A032E6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8BC42-93D5-4029-97A8-3C5240861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4E3C1-8BBA-4701-9918-634834FD1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320C0-E1B1-47D1-B7D6-2AD935D00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72352-8A3C-4C21-B0A2-A7C60213C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4F122-495C-4BED-88AB-11F5F8535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94C08-3CBA-4343-A0C8-C153DED0C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9DBE3-D263-49AA-981F-8253A80C3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8D71-9EE9-42D8-A463-579C36D79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ADBC9-0384-49C4-9726-FD6CDB5BB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82B12-A594-4958-B741-D9A65F4EC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4904F-9542-4782-90D7-20382E061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61E2-F275-47B4-8879-0CF9DABDE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D2170-24E2-423D-9D82-3B772A6C2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4E5AD-AB06-4248-A706-93490C6F7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209A-EFC2-4264-801D-6B6C3BEF7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182FC-0B59-4A21-A4CA-2DF56AF98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2A67E-BBA0-4928-AAAA-1E175BCCD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1A7B8-863C-461F-8D38-F6683BBC1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18DE-CFA4-4B51-AA34-BE0203ABA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5C941-6DD5-4F1D-836E-A18FD3D31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F133C-13A6-449E-B12F-1CBEE0000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51354-10BE-49F7-BEA8-B3FB31BCB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B352-CE4F-4E01-BAB8-22E7A09D14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2FAAD-B00C-45D1-B572-2A866FBAA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7F4CA-1738-442A-BBA5-9B8EDF359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1433D-E489-4496-B33E-6AFC644C0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605E-E0F5-4D09-B26F-FEFE24F9C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8D29-5B37-4D40-AE2C-057121A03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035D-2FA2-4BB1-886F-949755347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965B-7014-4D6F-B2BE-2BBA267D1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EAF7-4415-4A66-B9FE-02106B1A5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0B1C-45A2-4A12-A3E8-1E8828C01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2C62-730D-44A6-A80C-F3B2A04FD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5353-A9C9-480D-A5E0-4302B2E91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84360" y="250920"/>
            <a:ext cx="619128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101F-28BB-4474-92C3-C9A826AE4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3AC7-A59B-465C-830F-1D71004B0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740B-4145-422C-8876-4967C7C89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005A-A7E3-4C12-AD01-DE4E8C0C2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EE4BBB-023A-4429-A89D-F52FCE5E26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357200" y="714240"/>
            <a:ext cx="80820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0" t="0" r="68866" b="0"/>
          <a:stretch/>
        </p:blipFill>
        <p:spPr>
          <a:xfrm>
            <a:off x="142920" y="189000"/>
            <a:ext cx="13683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Object 8"/>
          <p:cNvGraphicFramePr/>
          <p:nvPr/>
        </p:nvGraphicFramePr>
        <p:xfrm>
          <a:off x="285840" y="638280"/>
          <a:ext cx="714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638280"/>
                    <a:ext cx="714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9" descr=""/>
          <p:cNvPicPr/>
          <p:nvPr/>
        </p:nvPicPr>
        <p:blipFill>
          <a:blip r:embed="rId6"/>
          <a:stretch/>
        </p:blipFill>
        <p:spPr>
          <a:xfrm>
            <a:off x="1428840" y="88920"/>
            <a:ext cx="89064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6C97B-A248-47E4-BCC4-50ABC32555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7240" y="1916280"/>
            <a:ext cx="7772400" cy="19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ment of tools for the analysis and visualisation of second generation sequencing data for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22560" y="4456080"/>
            <a:ext cx="49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Queensland,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Duran@uq.edu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FE1AE-B132-4584-AC2D-F2ED08E1AD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-based tool for short read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reads stor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uploads quer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flora.acpfg.com.au/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sualising read pairs for comparative ge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357120" y="4714920"/>
            <a:ext cx="8501040" cy="28584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/>
          <p:nvPr/>
        </p:nvCxnSpPr>
        <p:spPr>
          <a:xfrm>
            <a:off x="571320" y="33577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>
            <a:off x="2571840" y="3357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19" name="Straight Connector 39"/>
          <p:cNvSpPr/>
          <p:nvPr/>
        </p:nvSpPr>
        <p:spPr>
          <a:xfrm>
            <a:off x="857160" y="335772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643040" y="31431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144880" y="302436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43"/>
          <p:cNvSpPr/>
          <p:nvPr/>
        </p:nvSpPr>
        <p:spPr>
          <a:xfrm flipH="1">
            <a:off x="1712520" y="3430440"/>
            <a:ext cx="1800" cy="128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1787760" y="392904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Straight Arrow Connector 45"/>
          <p:cNvCxnSpPr/>
          <p:nvPr/>
        </p:nvCxnSpPr>
        <p:spPr>
          <a:xfrm>
            <a:off x="428616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46"/>
          <p:cNvCxnSpPr/>
          <p:nvPr/>
        </p:nvCxnSpPr>
        <p:spPr>
          <a:xfrm>
            <a:off x="692928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26" name="Straight Connector 47"/>
          <p:cNvSpPr/>
          <p:nvPr/>
        </p:nvSpPr>
        <p:spPr>
          <a:xfrm>
            <a:off x="4572000" y="2712960"/>
            <a:ext cx="23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716440" y="2500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6218640" y="2381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50"/>
          <p:cNvSpPr/>
          <p:nvPr/>
        </p:nvSpPr>
        <p:spPr>
          <a:xfrm>
            <a:off x="5786280" y="278604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5861520" y="3524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AE037-D3A0-4415-BC3A-328B503880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rcRect l="0" t="28129" r="2111" b="9997"/>
          <a:stretch/>
        </p:blipFill>
        <p:spPr>
          <a:xfrm>
            <a:off x="0" y="2286000"/>
            <a:ext cx="875016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3410" t="21878" r="2274" b="10625"/>
          <a:stretch/>
        </p:blipFill>
        <p:spPr>
          <a:xfrm>
            <a:off x="0" y="0"/>
            <a:ext cx="89661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6821" t="22814" r="0" b="11565"/>
          <a:stretch/>
        </p:blipFill>
        <p:spPr>
          <a:xfrm>
            <a:off x="0" y="4565520"/>
            <a:ext cx="8858160" cy="222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" y="1738440"/>
            <a:ext cx="15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hii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000" y="3643200"/>
            <a:ext cx="13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olerac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200" y="595296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ni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619B-5D36-4441-9401-895DFAA777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5760" y="1773360"/>
            <a:ext cx="8467560" cy="1559160"/>
            <a:chOff x="185760" y="1773360"/>
            <a:chExt cx="8467560" cy="1559160"/>
          </a:xfrm>
        </p:grpSpPr>
        <p:pic>
          <p:nvPicPr>
            <p:cNvPr id="142" name="Picture 4" descr=""/>
            <p:cNvPicPr/>
            <p:nvPr/>
          </p:nvPicPr>
          <p:blipFill>
            <a:blip r:embed="rId1">
              <a:lum contrast="20000"/>
            </a:blip>
            <a:srcRect l="6457" t="12926" r="37767" b="17386"/>
            <a:stretch/>
          </p:blipFill>
          <p:spPr>
            <a:xfrm>
              <a:off x="714240" y="1924200"/>
              <a:ext cx="7629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>
              <a:off x="8348760" y="1973160"/>
              <a:ext cx="1440" cy="9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92400" y="2478240"/>
              <a:ext cx="390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33000" y="218268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9760" y="187632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1076400" y="291456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594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91816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48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55976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931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8016840" y="2914560"/>
              <a:ext cx="636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7,00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24600" y="3111480"/>
              <a:ext cx="10616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ase pair (b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 rot="16200000">
              <a:off x="-420840" y="2380320"/>
              <a:ext cx="14349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No. of aligned rea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2600" y="278460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468360" y="5734080"/>
            <a:ext cx="824544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gh-covered regions of short reads and their corresponding annotation in a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B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40720" y="3499200"/>
            <a:ext cx="7817400" cy="1117440"/>
            <a:chOff x="540720" y="3499200"/>
            <a:chExt cx="7817400" cy="1117440"/>
          </a:xfrm>
        </p:grpSpPr>
        <p:sp>
          <p:nvSpPr>
            <p:cNvPr id="159" name="Rectangle 21"/>
            <p:cNvSpPr/>
            <p:nvPr/>
          </p:nvSpPr>
          <p:spPr>
            <a:xfrm>
              <a:off x="2440080" y="3499200"/>
              <a:ext cx="904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TIR-NBS-LR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231920" y="3960720"/>
              <a:ext cx="7126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511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19177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748520" y="3628800"/>
              <a:ext cx="3207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1816200" y="3625920"/>
              <a:ext cx="18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352600" y="3825720"/>
              <a:ext cx="36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2249640" y="362664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1994040" y="389268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rot="10800000">
              <a:off x="2778120" y="3689280"/>
              <a:ext cx="7128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3341520" y="3824280"/>
              <a:ext cx="493920" cy="287280"/>
            </a:xfrm>
            <a:prstGeom prst="flowChartPredefined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4592520" y="3827520"/>
              <a:ext cx="493920" cy="287280"/>
            </a:xfrm>
            <a:prstGeom prst="flowChartPredefined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 rot="16200000">
              <a:off x="4564800" y="392508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rot="5400000">
              <a:off x="4839480" y="391716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5234040" y="389412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7632720" y="3817800"/>
              <a:ext cx="144360" cy="2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7"/>
            <p:cNvSpPr/>
            <p:nvPr/>
          </p:nvSpPr>
          <p:spPr>
            <a:xfrm rot="5400000">
              <a:off x="7583040" y="3879720"/>
              <a:ext cx="287280" cy="144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8"/>
            <p:cNvSpPr/>
            <p:nvPr/>
          </p:nvSpPr>
          <p:spPr>
            <a:xfrm>
              <a:off x="3316680" y="4124520"/>
              <a:ext cx="5036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MuD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4595040" y="4131000"/>
              <a:ext cx="468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0"/>
            <p:cNvSpPr/>
            <p:nvPr/>
          </p:nvSpPr>
          <p:spPr>
            <a:xfrm>
              <a:off x="7222320" y="4188240"/>
              <a:ext cx="960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 </a:t>
              </a: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olo LT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AutoShape 41"/>
            <p:cNvCxnSpPr>
              <a:stCxn id="174" idx="2"/>
              <a:endCxn id="178" idx="0"/>
            </p:cNvCxnSpPr>
            <p:nvPr/>
          </p:nvCxnSpPr>
          <p:spPr>
            <a:xfrm flipH="1">
              <a:off x="7701840" y="4105440"/>
              <a:ext cx="3960" cy="7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Rectangle 42"/>
            <p:cNvSpPr/>
            <p:nvPr/>
          </p:nvSpPr>
          <p:spPr>
            <a:xfrm>
              <a:off x="1783440" y="4264920"/>
              <a:ext cx="476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(AT)</a:t>
              </a:r>
              <a:r>
                <a:rPr b="0" lang="en-AU" sz="9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AutoShape 43"/>
            <p:cNvCxnSpPr>
              <a:stCxn id="167" idx="2"/>
              <a:endCxn id="180" idx="0"/>
            </p:cNvCxnSpPr>
            <p:nvPr/>
          </p:nvCxnSpPr>
          <p:spPr>
            <a:xfrm>
              <a:off x="2013120" y="4037040"/>
              <a:ext cx="864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2" name="Rectangle 44"/>
            <p:cNvSpPr/>
            <p:nvPr/>
          </p:nvSpPr>
          <p:spPr>
            <a:xfrm>
              <a:off x="4960080" y="4243320"/>
              <a:ext cx="589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C/T-ri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45"/>
            <p:cNvCxnSpPr>
              <a:stCxn id="173" idx="2"/>
              <a:endCxn id="182" idx="0"/>
            </p:cNvCxnSpPr>
            <p:nvPr/>
          </p:nvCxnSpPr>
          <p:spPr>
            <a:xfrm>
              <a:off x="5252760" y="4038480"/>
              <a:ext cx="396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4" name="Text Box 46"/>
            <p:cNvSpPr/>
            <p:nvPr/>
          </p:nvSpPr>
          <p:spPr>
            <a:xfrm>
              <a:off x="540720" y="3809880"/>
              <a:ext cx="65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ea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7"/>
          <p:cNvGrpSpPr/>
          <p:nvPr/>
        </p:nvGrpSpPr>
        <p:grpSpPr>
          <a:xfrm>
            <a:off x="540360" y="4668840"/>
            <a:ext cx="7943760" cy="752400"/>
            <a:chOff x="540360" y="4668840"/>
            <a:chExt cx="7943760" cy="752400"/>
          </a:xfrm>
        </p:grpSpPr>
        <p:sp>
          <p:nvSpPr>
            <p:cNvPr id="186" name="Line 48"/>
            <p:cNvSpPr/>
            <p:nvPr/>
          </p:nvSpPr>
          <p:spPr>
            <a:xfrm>
              <a:off x="1209600" y="4940280"/>
              <a:ext cx="7126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49"/>
            <p:cNvSpPr/>
            <p:nvPr/>
          </p:nvSpPr>
          <p:spPr>
            <a:xfrm>
              <a:off x="1244520" y="4807080"/>
              <a:ext cx="158760" cy="287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50"/>
            <p:cNvSpPr/>
            <p:nvPr/>
          </p:nvSpPr>
          <p:spPr>
            <a:xfrm rot="10800000">
              <a:off x="1455480" y="4816440"/>
              <a:ext cx="331560" cy="287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1"/>
            <p:cNvSpPr/>
            <p:nvPr/>
          </p:nvSpPr>
          <p:spPr>
            <a:xfrm rot="10800000">
              <a:off x="2073240" y="4816440"/>
              <a:ext cx="216000" cy="2872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2"/>
            <p:cNvSpPr/>
            <p:nvPr/>
          </p:nvSpPr>
          <p:spPr>
            <a:xfrm>
              <a:off x="2408400" y="48006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rot="10800000">
              <a:off x="2719080" y="4819680"/>
              <a:ext cx="323640" cy="287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>
              <a:off x="3063960" y="4803840"/>
              <a:ext cx="36360" cy="287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55"/>
            <p:cNvSpPr/>
            <p:nvPr/>
          </p:nvSpPr>
          <p:spPr>
            <a:xfrm rot="10800000">
              <a:off x="3112560" y="4819680"/>
              <a:ext cx="173160" cy="287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10800000">
              <a:off x="3914640" y="4819680"/>
              <a:ext cx="68400" cy="287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57"/>
            <p:cNvSpPr/>
            <p:nvPr/>
          </p:nvSpPr>
          <p:spPr>
            <a:xfrm rot="10800000">
              <a:off x="4067280" y="4819680"/>
              <a:ext cx="280800" cy="2872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 rot="10800000">
              <a:off x="4430880" y="4819680"/>
              <a:ext cx="85680" cy="287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59"/>
            <p:cNvSpPr/>
            <p:nvPr/>
          </p:nvSpPr>
          <p:spPr>
            <a:xfrm>
              <a:off x="5272200" y="4799160"/>
              <a:ext cx="223560" cy="287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60"/>
            <p:cNvSpPr/>
            <p:nvPr/>
          </p:nvSpPr>
          <p:spPr>
            <a:xfrm rot="10800000">
              <a:off x="5527800" y="4816440"/>
              <a:ext cx="295200" cy="28728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0800000">
              <a:off x="5872320" y="4816440"/>
              <a:ext cx="1690560" cy="28728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62"/>
            <p:cNvSpPr/>
            <p:nvPr/>
          </p:nvSpPr>
          <p:spPr>
            <a:xfrm>
              <a:off x="8032680" y="4800600"/>
              <a:ext cx="258840" cy="2872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 rot="10800000">
              <a:off x="2755440" y="4668840"/>
              <a:ext cx="7164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4"/>
            <p:cNvSpPr/>
            <p:nvPr/>
          </p:nvSpPr>
          <p:spPr>
            <a:xfrm>
              <a:off x="6878520" y="5259240"/>
              <a:ext cx="216000" cy="14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7047720" y="5211720"/>
              <a:ext cx="14364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redicted genic reg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540360" y="4815000"/>
              <a:ext cx="554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Ge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8EFB2-424F-4222-B6A1-0A6D9B250D1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5760" y="1598760"/>
            <a:ext cx="803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t">
            <a:noAutofit/>
          </a:bodyPr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ding the genes for the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ion of genetic data with genom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158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pping of QTL regions to genom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734080"/>
            <a:ext cx="6659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Annot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396720" y="3851280"/>
            <a:ext cx="79203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011AC-4F0F-4EDD-93C8-0E89C106FB5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rom genetic to phys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0040" y="2214720"/>
            <a:ext cx="7286760" cy="142560"/>
          </a:xfrm>
          <a:prstGeom prst="rect">
            <a:avLst/>
          </a:prstGeom>
          <a:solidFill>
            <a:srgbClr val="a6a6a6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11"/>
          <p:cNvSpPr/>
          <p:nvPr/>
        </p:nvSpPr>
        <p:spPr>
          <a:xfrm>
            <a:off x="642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12"/>
          <p:cNvSpPr/>
          <p:nvPr/>
        </p:nvSpPr>
        <p:spPr>
          <a:xfrm flipH="1">
            <a:off x="999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ight Arrow 13"/>
          <p:cNvSpPr/>
          <p:nvPr/>
        </p:nvSpPr>
        <p:spPr>
          <a:xfrm>
            <a:off x="6429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ight Arrow 14"/>
          <p:cNvSpPr/>
          <p:nvPr/>
        </p:nvSpPr>
        <p:spPr>
          <a:xfrm flipH="1">
            <a:off x="3285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8571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7" descr="matches.png"/>
          <p:cNvPicPr/>
          <p:nvPr/>
        </p:nvPicPr>
        <p:blipFill>
          <a:blip r:embed="rId1"/>
          <a:stretch/>
        </p:blipFill>
        <p:spPr>
          <a:xfrm>
            <a:off x="928800" y="2957400"/>
            <a:ext cx="735804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Right Arrow 18"/>
          <p:cNvSpPr/>
          <p:nvPr/>
        </p:nvSpPr>
        <p:spPr>
          <a:xfrm flipH="1">
            <a:off x="14281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19"/>
          <p:cNvSpPr/>
          <p:nvPr/>
        </p:nvSpPr>
        <p:spPr>
          <a:xfrm>
            <a:off x="1785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20"/>
          <p:cNvSpPr/>
          <p:nvPr/>
        </p:nvSpPr>
        <p:spPr>
          <a:xfrm flipH="1">
            <a:off x="17852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ight Arrow 21"/>
          <p:cNvSpPr/>
          <p:nvPr/>
        </p:nvSpPr>
        <p:spPr>
          <a:xfrm>
            <a:off x="22147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ight Arrow 23"/>
          <p:cNvSpPr/>
          <p:nvPr/>
        </p:nvSpPr>
        <p:spPr>
          <a:xfrm flipH="1">
            <a:off x="2785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ight Arrow 24"/>
          <p:cNvSpPr/>
          <p:nvPr/>
        </p:nvSpPr>
        <p:spPr>
          <a:xfrm>
            <a:off x="3000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ight Arrow 25"/>
          <p:cNvSpPr/>
          <p:nvPr/>
        </p:nvSpPr>
        <p:spPr>
          <a:xfrm flipH="1">
            <a:off x="585720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28"/>
          <p:cNvSpPr/>
          <p:nvPr/>
        </p:nvSpPr>
        <p:spPr>
          <a:xfrm>
            <a:off x="38577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9"/>
          <p:cNvSpPr/>
          <p:nvPr/>
        </p:nvSpPr>
        <p:spPr>
          <a:xfrm flipH="1">
            <a:off x="42141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0719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ight Arrow 31"/>
          <p:cNvSpPr/>
          <p:nvPr/>
        </p:nvSpPr>
        <p:spPr>
          <a:xfrm flipH="1">
            <a:off x="450000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ight Arrow 32"/>
          <p:cNvSpPr/>
          <p:nvPr/>
        </p:nvSpPr>
        <p:spPr>
          <a:xfrm>
            <a:off x="4714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ight Arrow 33"/>
          <p:cNvSpPr/>
          <p:nvPr/>
        </p:nvSpPr>
        <p:spPr>
          <a:xfrm flipH="1">
            <a:off x="5000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34"/>
          <p:cNvSpPr/>
          <p:nvPr/>
        </p:nvSpPr>
        <p:spPr>
          <a:xfrm>
            <a:off x="507204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ight Arrow 35"/>
          <p:cNvSpPr/>
          <p:nvPr/>
        </p:nvSpPr>
        <p:spPr>
          <a:xfrm flipH="1">
            <a:off x="5429160" y="242892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2862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ight Arrow 37"/>
          <p:cNvSpPr/>
          <p:nvPr/>
        </p:nvSpPr>
        <p:spPr>
          <a:xfrm flipH="1">
            <a:off x="57142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ight Arrow 38"/>
          <p:cNvSpPr/>
          <p:nvPr/>
        </p:nvSpPr>
        <p:spPr>
          <a:xfrm>
            <a:off x="5857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ight Arrow 39"/>
          <p:cNvSpPr/>
          <p:nvPr/>
        </p:nvSpPr>
        <p:spPr>
          <a:xfrm flipH="1">
            <a:off x="6214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07212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ight Arrow 41"/>
          <p:cNvSpPr/>
          <p:nvPr/>
        </p:nvSpPr>
        <p:spPr>
          <a:xfrm flipH="1">
            <a:off x="66430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ght Arrow 42"/>
          <p:cNvSpPr/>
          <p:nvPr/>
        </p:nvSpPr>
        <p:spPr>
          <a:xfrm>
            <a:off x="692928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ight Arrow 43"/>
          <p:cNvSpPr/>
          <p:nvPr/>
        </p:nvSpPr>
        <p:spPr>
          <a:xfrm flipH="1">
            <a:off x="7286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71438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ight Arrow 45"/>
          <p:cNvSpPr/>
          <p:nvPr/>
        </p:nvSpPr>
        <p:spPr>
          <a:xfrm flipH="1">
            <a:off x="742896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ight Arrow 46"/>
          <p:cNvSpPr/>
          <p:nvPr/>
        </p:nvSpPr>
        <p:spPr>
          <a:xfrm>
            <a:off x="2357280" y="192888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ight Arrow 47"/>
          <p:cNvSpPr/>
          <p:nvPr/>
        </p:nvSpPr>
        <p:spPr>
          <a:xfrm>
            <a:off x="3714840" y="192888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7769160" y="2176560"/>
            <a:ext cx="1187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B. rapa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50"/>
          <p:cNvSpPr/>
          <p:nvPr/>
        </p:nvSpPr>
        <p:spPr>
          <a:xfrm>
            <a:off x="7786800" y="221472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51"/>
          <p:cNvSpPr/>
          <p:nvPr/>
        </p:nvSpPr>
        <p:spPr>
          <a:xfrm>
            <a:off x="7786800" y="235728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85880" y="6000840"/>
            <a:ext cx="764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rdered subset of SOAP2 output, with matching primer pairs highligh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59"/>
          <p:cNvSpPr/>
          <p:nvPr/>
        </p:nvSpPr>
        <p:spPr>
          <a:xfrm>
            <a:off x="50004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0"/>
          <p:cNvSpPr/>
          <p:nvPr/>
        </p:nvSpPr>
        <p:spPr>
          <a:xfrm>
            <a:off x="778680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61"/>
          <p:cNvSpPr/>
          <p:nvPr/>
        </p:nvSpPr>
        <p:spPr>
          <a:xfrm>
            <a:off x="14292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4488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2"/>
          <p:cNvSpPr/>
          <p:nvPr/>
        </p:nvSpPr>
        <p:spPr>
          <a:xfrm>
            <a:off x="742968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3546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ontent Placeholder 4" descr="CMap3D.PNG"/>
          <p:cNvPicPr/>
          <p:nvPr/>
        </p:nvPicPr>
        <p:blipFill>
          <a:blip r:embed="rId1"/>
          <a:stretch/>
        </p:blipFill>
        <p:spPr>
          <a:xfrm>
            <a:off x="71280" y="1312920"/>
            <a:ext cx="8859960" cy="5759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53350-1A8A-46DB-A547-B93BA792A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91234-84AE-47D9-914D-1326EE78CB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8400" y="1312920"/>
            <a:ext cx="88614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rassica C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3 map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18 linkage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899 mar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7A7DD-73B4-44B0-8295-9ADB95039F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E975E-E4CA-48F0-BAEE-6589050C46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60020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 lot of useful things you can do with short paired read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Map3D to link Brassica genetics and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available at: http://flora.acpfg.com.a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or type ACPFG bioinformatics into Goog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1BD4D-8366-4FA6-A1BD-153B4482EE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220500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and promoter discovery: 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ome sequencing and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genetic and genomic data using CMa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rcRect l="0" t="0" r="56358" b="0"/>
          <a:stretch/>
        </p:blipFill>
        <p:spPr>
          <a:xfrm>
            <a:off x="6753240" y="4540320"/>
            <a:ext cx="24494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rcRect l="0" t="0" r="68845" b="0"/>
          <a:stretch/>
        </p:blipFill>
        <p:spPr>
          <a:xfrm>
            <a:off x="34920" y="476280"/>
            <a:ext cx="2521080" cy="703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959280" y="1440000"/>
            <a:ext cx="2556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Berk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ren Bra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y Cl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ic 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 Pyo H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Imel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gan McKenz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ri St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avid Ed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4179960" y="5859360"/>
            <a:ext cx="2054160" cy="31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4"/>
          <a:stretch/>
        </p:blipFill>
        <p:spPr>
          <a:xfrm>
            <a:off x="250920" y="1500120"/>
            <a:ext cx="187308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1027080" y="3052800"/>
            <a:ext cx="2033640" cy="1266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6659640" y="5400720"/>
            <a:ext cx="34131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 Mars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Apple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 Zh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an Boskov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9"/>
          <p:cNvGraphicFramePr/>
          <p:nvPr/>
        </p:nvGraphicFramePr>
        <p:xfrm>
          <a:off x="2143080" y="4645080"/>
          <a:ext cx="142884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3080" y="4645080"/>
                    <a:ext cx="142884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10" descr=""/>
          <p:cNvPicPr/>
          <p:nvPr/>
        </p:nvPicPr>
        <p:blipFill>
          <a:blip r:embed="rId8"/>
          <a:stretch/>
        </p:blipFill>
        <p:spPr>
          <a:xfrm>
            <a:off x="6786720" y="3720960"/>
            <a:ext cx="18000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9"/>
          <a:stretch/>
        </p:blipFill>
        <p:spPr>
          <a:xfrm>
            <a:off x="455760" y="5213520"/>
            <a:ext cx="1125360" cy="9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6659640" y="1440000"/>
            <a:ext cx="248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Jacqueline Bat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iaowu W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sh R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Kaye Basf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0"/>
          <a:stretch/>
        </p:blipFill>
        <p:spPr>
          <a:xfrm>
            <a:off x="2081160" y="6323040"/>
            <a:ext cx="1548000" cy="463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1"/>
          <a:stretch/>
        </p:blipFill>
        <p:spPr>
          <a:xfrm>
            <a:off x="4191120" y="6286680"/>
            <a:ext cx="11667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ired-end short r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5943600" y="2154240"/>
            <a:ext cx="114300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044440" y="2163600"/>
            <a:ext cx="1168200" cy="180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200400" y="215424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48120" y="2241720"/>
            <a:ext cx="182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2708280"/>
            <a:ext cx="82296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mina GAI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length (35bp – 75b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ert size up to 10K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Normal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 deviation ~ 10%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finding and ex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2498760" y="3157560"/>
            <a:ext cx="411480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H="1">
            <a:off x="1112400" y="2700360"/>
            <a:ext cx="57492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95596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43580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5457960" y="26906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870360" y="338616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/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>
            <a:off x="3400560" y="29192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699160" y="29192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885960" y="24620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27360" y="24620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1114200" y="2919240"/>
            <a:ext cx="253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008000" y="1865160"/>
            <a:ext cx="852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69960" y="223344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27160" y="4062240"/>
            <a:ext cx="204840" cy="6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355760" y="4748040"/>
            <a:ext cx="6400800" cy="2286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4987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6135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09560" y="3646440"/>
            <a:ext cx="85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252960" y="5816520"/>
            <a:ext cx="318960" cy="2160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95360" y="5767560"/>
            <a:ext cx="944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5724360" y="5821200"/>
            <a:ext cx="319320" cy="2160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543560" y="5784840"/>
            <a:ext cx="117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6162840" y="592596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111400" y="6058080"/>
            <a:ext cx="153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abidop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44920" y="6046920"/>
            <a:ext cx="1370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ass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7215" t="19127" r="18281" b="12584"/>
          <a:stretch/>
        </p:blipFill>
        <p:spPr>
          <a:xfrm>
            <a:off x="949320" y="1606680"/>
            <a:ext cx="7389720" cy="488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87200" y="6526080"/>
            <a:ext cx="874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flora.acpfg.com.au/tagdb/cgi-bin/results?jobID=bK85Lk10fVzMlw5e33FSuYB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1" descr="primers_a.PNG"/>
          <p:cNvPicPr/>
          <p:nvPr/>
        </p:nvPicPr>
        <p:blipFill>
          <a:blip r:embed="rId1"/>
          <a:stretch/>
        </p:blipFill>
        <p:spPr>
          <a:xfrm>
            <a:off x="285840" y="1911240"/>
            <a:ext cx="85723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5" descr="primers_b.PNG"/>
          <p:cNvPicPr/>
          <p:nvPr/>
        </p:nvPicPr>
        <p:blipFill>
          <a:blip r:embed="rId1"/>
          <a:stretch/>
        </p:blipFill>
        <p:spPr>
          <a:xfrm>
            <a:off x="231840" y="1857240"/>
            <a:ext cx="862632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3C33A-C8E3-4BA9-A258-5CE3ADB021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84464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rap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olerace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nigr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3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 7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le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9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ongami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.4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icotian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03:12Z</dcterms:created>
  <dc:creator>Bob</dc:creator>
  <dc:description/>
  <dc:language>en-US</dc:language>
  <cp:lastModifiedBy>GMOD / NESCent</cp:lastModifiedBy>
  <cp:lastPrinted>2009-04-22T19:24:48Z</cp:lastPrinted>
  <dcterms:modified xsi:type="dcterms:W3CDTF">2010-01-21T18:16:17Z</dcterms:modified>
  <cp:revision>178</cp:revision>
  <dc:subject/>
  <dc:title>Main Title</dc:title>
</cp:coreProperties>
</file>